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1D9-8EF7-407A-AB93-F29129B0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554-2CE4-442C-B8EC-69B0EB62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F4F-10B4-4552-B19F-B0622948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4D5-CB5E-47F3-B67C-F52FEF7B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57C-F8D6-47A2-9D7D-A74B4C7D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E75-F997-4C83-BC8F-843610F6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9B00-9C07-4F99-89BE-5F09D95C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C42-2373-422E-A24D-104975B8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CEDB-5114-4102-B4CB-0D92055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DB6-C615-47BF-B01C-398DEA57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175-337C-4A54-976A-5505E74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C49-52D9-41B6-AED0-E64C93F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A83-88AD-43EB-A354-A472DFC4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F5AA-9997-4521-B83F-795588A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29E-E38A-4F8E-8F00-8EDFD74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7A1-91F2-48B4-A469-120DCC30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D107-C727-4238-95C8-D08B6FEF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F25-F190-4CB4-85D0-DF057A1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118-EDEA-406A-B003-845C393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601-F60F-4936-B65E-4D5D8110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858-24A1-45E8-B765-00532E5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D52-A4B1-4D80-BB75-35663A4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E00-DDA6-4475-BEBA-2D627F7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A7A-2F89-4B6B-807A-D6A8089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A2BF-4141-45D6-A4CE-5A7DF668403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6D4-D8E8-482E-BBA3-6B9C8F7189B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Image:Map_of_Great_Plains.sv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0/Chicago_stockyards_cattle_pens_men_1909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pter 4:  Settling the We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4190760"/>
            <a:ext cx="640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 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tle would be rounded-up; 2-5,00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out 3 months lo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wboy traveled from ranch to the shipping ya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ther and stampedes biggest risk factors to the cowbo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5469120" cy="367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06920" y="762120"/>
            <a:ext cx="453708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5005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.  The Wide-open West comes to an end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4372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.  Joseph Glidd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kalb, Illinois farm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ventor of barb-wi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heap and easy to 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9480" y="21016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Barbed Wire fence post"/>
          <p:cNvPicPr/>
          <p:nvPr/>
        </p:nvPicPr>
        <p:blipFill>
          <a:blip r:embed="rId1"/>
          <a:stretch/>
        </p:blipFill>
        <p:spPr>
          <a:xfrm>
            <a:off x="5334120" y="213372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1:  Miners and Ranch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he discovery of gold, silver, and other minerals attracted thousands of settlers who established new states on the fronti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.  Mining for Gold and Silv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" descr="California Mining Village"/>
          <p:cNvPicPr/>
          <p:nvPr/>
        </p:nvPicPr>
        <p:blipFill>
          <a:blip r:embed="rId2"/>
          <a:stretch/>
        </p:blipFill>
        <p:spPr>
          <a:xfrm>
            <a:off x="914400" y="2057400"/>
            <a:ext cx="3886200" cy="296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alifornia Gold Mine"/>
          <p:cNvPicPr/>
          <p:nvPr/>
        </p:nvPicPr>
        <p:blipFill>
          <a:blip r:embed="rId3"/>
          <a:stretch/>
        </p:blipFill>
        <p:spPr>
          <a:xfrm>
            <a:off x="4876920" y="3040200"/>
            <a:ext cx="426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 Pros and Cons of Mining</a:t>
            </a:r>
            <a:br>
              <a:rPr sz="4400"/>
            </a:b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(pair share)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lroads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ehood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ities developed and “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Boome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”- economy grew rapidl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8880" indent="-4572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d cr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struction of 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ost town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 Realities of Mining &amp; Boomtow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Cowboys in a Saloon"/>
          <p:cNvPicPr/>
          <p:nvPr/>
        </p:nvPicPr>
        <p:blipFill>
          <a:blip r:embed="rId2"/>
          <a:stretch/>
        </p:blipFill>
        <p:spPr>
          <a:xfrm>
            <a:off x="1676520" y="1905120"/>
            <a:ext cx="3429000" cy="278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Dalton Gang in Death"/>
          <p:cNvPicPr/>
          <p:nvPr/>
        </p:nvPicPr>
        <p:blipFill>
          <a:blip r:embed="rId3"/>
          <a:stretch/>
        </p:blipFill>
        <p:spPr>
          <a:xfrm>
            <a:off x="5715000" y="1905120"/>
            <a:ext cx="3429000" cy="26398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990720" y="-1981080"/>
            <a:ext cx="5116320" cy="12072960"/>
            <a:chOff x="990720" y="-1981080"/>
            <a:chExt cx="5116320" cy="12072960"/>
          </a:xfrm>
        </p:grpSpPr>
        <p:sp>
          <p:nvSpPr>
            <p:cNvPr id="105" name=""/>
            <p:cNvSpPr/>
            <p:nvPr/>
          </p:nvSpPr>
          <p:spPr>
            <a:xfrm>
              <a:off x="990720" y="-1981080"/>
              <a:ext cx="5116320" cy="120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-1981080"/>
              <a:ext cx="893520" cy="44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0" lang="en-US" sz="25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962520" y="4317840"/>
            <a:ext cx="3197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.  Growth of the Cattle Indust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72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Ranchers built vast cattle ranches on the Great Plains and shipped their cattle on railroads to eastern mark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at Plai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The Great Plains covers most of the central United States, portions of Canada and Mexico. The 100th meridian west is denoted with the red line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371600"/>
            <a:ext cx="8381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wboys &amp; Catt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" descr="Ozarks Santa Catalina, Longhorn Cow"/>
          <p:cNvPicPr/>
          <p:nvPr/>
        </p:nvPicPr>
        <p:blipFill>
          <a:blip r:embed="rId1"/>
          <a:stretch/>
        </p:blipFill>
        <p:spPr>
          <a:xfrm>
            <a:off x="3429000" y="4826160"/>
            <a:ext cx="2971800" cy="2031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572000" cy="300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24480" y="1066680"/>
            <a:ext cx="37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 Railroads, Cowboys &amp; Catt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mand for beef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R routes increased = transport of cattle to big c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 in demand for cowboys = long dri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9480" y="21016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Image:Chicago stockyards cattle pens men 19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41641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1T16:17:21Z</dcterms:modified>
  <cp:revision>16</cp:revision>
  <dc:subject/>
  <dc:title>PowerPoint Presentation</dc:title>
</cp:coreProperties>
</file>